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6023832-5531-4DA8-867B-AE94FFC66A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14280" y="1371600"/>
            <a:ext cx="8026560" cy="0"/>
          </a:xfrm>
          <a:prstGeom prst="line">
            <a:avLst/>
          </a:prstGeom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4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314280" y="0"/>
            <a:ext cx="9134640" cy="68486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1000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38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4280" y="3429000"/>
            <a:ext cx="8026560" cy="0"/>
          </a:xfrm>
          <a:prstGeom prst="line">
            <a:avLst/>
          </a:prstGeom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174680" y="1066680"/>
            <a:ext cx="5997600" cy="40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IFS for Unix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0" lang="en-US" sz="36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Andrew Tridgell</a:t>
            </a:r>
            <a:br>
              <a:rPr sz="3600"/>
            </a:br>
            <a:r>
              <a:rPr b="0" lang="en-US" sz="32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amba-team@samba.anu.edu.a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8048520" y="324000"/>
            <a:ext cx="1127160" cy="2620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514440" y="237960"/>
            <a:ext cx="800280" cy="73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Unix CIFS Clie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y diverse implement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client is ftp-lik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fs is kernel bas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lib is a portable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x CIFS clients are not widely used becau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authentication interface is awkwar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servers lack full unix seman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ode numbers, links and permission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mbclie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49280" y="1676520"/>
            <a:ext cx="7728120" cy="425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igned as a diagnostic to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y little sanity check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mple command line interf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sily exten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sily change packets at the bit/byt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so has other u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ed backups of PCs to Uni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ing gateway from Unix to P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d in scripts for installation/monito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ssaging via WinPop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mbf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true SMB filesystem for Linu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rnel bas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grates with VFS 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sswords supplied at mount ti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s only a small subset of SMB featu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MBlib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portable SMB libra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ims to integrate into appli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ll eventualy replace smbcli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-transport desig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so has other u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 admin too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torture tes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Policy versus Protoco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IFS specifies a lot of policy i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gal/illegal filenam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’t delete read-only fi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IFS: Building a better SMB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re is work to do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ed to separate application API from file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functions need consolida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ecification need to be very detail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w authentication model need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Beyond a filesyste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the Internet environ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system model isn’t always ide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systems often have rotten network efficienc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is is often the applications faul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data update mechanis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tter algorithms are needed - rsync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Referenc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mba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samba.canberra.edu.au/pub/samb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mba survey: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samba.canberra.edu.au/pub/samba/surve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urce code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tp://samba.anu.edu.au/pub/samb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The SMB Heritag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is the DOS/Windows API on the wi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gets extended in parallel with Windo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implicitly assumes many DOS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y rich seman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x API is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ver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iffer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ch simpler AP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x VFS layer is sma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695160" y="26676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Is there demand for CIFS on Unix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es! The Samba Survey shows th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ggest users are corpor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rgest site has 15000 users on 1200 serv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porate and business users make up over 50% of respond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ividual users contribute only 4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ten used beside non-unix servers (mostly N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latforms dominated by SunOS and Linu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st common “wish list” is full NT domain security integ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Writing a CIFS serv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implementor must decide 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act emulation or unix seman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rnel or user space implem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 model - one client per proces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strategy is needed f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er hand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tribute hand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aracter se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name mapp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IFS Security Issu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CIFS server must be parano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 file operations done as non-roo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nity check all oper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x and CIFS security models are very differ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ssword synchronisation probl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/share/server security - none fits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What the spec doesn’t tell you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om the spec you may not realise th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rowsing and IPC calls are essential, but currently undocumen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cking is used in very unusual wa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 handling is unusu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y applications assu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S/Windows directory hand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system loops don’t ex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names are case in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tarting from scratch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rite both a client and a ser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ou need a client you can modif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ed to test unusual situ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ed to probe existing ser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an extensible sniff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d to the sniffer as you lear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n’t assume existing sniffers are corr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More problem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re are lots more thorny issues to deal wi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cking in unix is a m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are modes don’t ex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ctory/file permissions are totally differ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xt format is differ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P privilaged ports must be observ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blem with firew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blem with name status que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IFS for Unix to Unix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 CIFS viable for Unix to Unix connection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 really, at least not y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at is neede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ft links, unix attributes, uids, gi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ode numbers, device fi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tter authenti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lementations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ndrew Tridgell</dc:creator>
  <dc:description>DRAFT ONLY - V3</dc:description>
  <dc:language>en-US</dc:language>
  <cp:lastModifiedBy>Susan</cp:lastModifiedBy>
  <cp:revision>0</cp:revision>
  <dc:subject/>
  <dc:title>SMB on Unix</dc:title>
</cp:coreProperties>
</file>