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7685"/>
        <c:axId val="79167985"/>
      </c:barChart>
      <c:catAx>
        <c:axId val="9447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67985"/>
        <c:crosses val="autoZero"/>
        <c:auto val="1"/>
        <c:lblAlgn val="ctr"/>
        <c:lblOffset val="100"/>
        <c:noMultiLvlLbl val="0"/>
      </c:catAx>
      <c:valAx>
        <c:axId val="79167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7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45F-AC5D-422F-B65C-93A48107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65C-FE53-4198-9F9F-1A9C5F24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95B-A015-4B6C-81EC-E311CCD8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FF2-38F9-4B87-BE36-137889EA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86B-64AF-4740-BE5B-A4739B0C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F1B-D633-468E-B09C-43A86A1B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08F-0745-4869-97BC-86154C89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06B-2BEE-4DE1-8803-17370725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92F-5E94-4ACE-938D-89EC1100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3E5-C4B6-4A07-90A0-577EFC42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069-B187-4405-96B1-58DE86D4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60C-C890-48C2-9D0C-5680D91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84D5E-8C00-49CD-905D-005B133BD6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